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478F-7C55-48F2-AE1C-A0338429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B8F9-2419-4E06-A0EB-9F8549D9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BD7F-59DD-4F37-A761-D4F48016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DF08-8B9C-4293-90CF-3B9D300D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B50-71CF-4C42-BFB0-A3DDA8C4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3234-62E1-44D4-848B-DD34325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E710-6A1E-45D8-A9CD-58BD2E3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E2B-9B22-4EB7-8F65-A9FBA61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938-1ED5-457F-ADB7-5A7FD720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56E-10BC-4947-B984-055F9CF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B8B-9E56-4E63-A3B4-8EAA261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87DD-884E-499A-BD72-A7268949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C21-A2EE-4254-972A-8318BA6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06C-F790-450D-B833-F767E35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36C2-D016-4165-96BB-B26FBF9F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0AC4-4722-4CB7-A89F-4CFA1D4C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5AB-2AAA-42A8-9027-A8B5A37E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95F4-861F-42C6-8BA8-B1F4EF1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7D74-9CAD-41EC-875E-2B09A1B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FDC3-4B22-472D-9662-4257076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3034-8DE6-4839-9183-F09C194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B87B-E6FD-4535-BB45-5A2CAC8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1300-F94B-459B-9168-D701550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9510-8FC6-42B0-850D-A87D40B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81E-224D-4C87-8928-43B40FE4853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73E-465F-4EEB-BD37-1F4A92AB8D4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40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ятел има гор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алките дец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 нежност им гово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ее им в сърц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ятел е чудес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рай неизмен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яма друг по-неж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ятел, по-люб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мил Приятел мо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малките де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Негови престо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ложат те сърц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ци блестящи д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ерните дец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готвил е и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крайна чрез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-22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Приятеля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ледат там в лиц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т славна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арфи във ръ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песен нито мож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ей небесен сбо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аз песен, мили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 хвали детски хор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4:49Z</dcterms:modified>
  <cp:revision>203</cp:revision>
  <dc:subject/>
  <dc:title>Slide 1</dc:title>
</cp:coreProperties>
</file>